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610C8-93A3-43B1-BAEA-DBB234A31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10A2F-8831-45D8-B73A-BFD3047C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78CAB-7835-4CA8-AC20-ABC2D38A5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CA1DC-1EA5-4DE6-AE47-5AC028529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89E6B-A009-4CDD-AADD-706B9C28A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EDD4-671F-4256-BFBB-678228B2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208D-B091-4CF9-9D5F-8F514BC7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DD284-DF35-40F6-BA31-1C150CBB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BEF8-9359-459F-A217-0665670B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F91A-A91B-4298-B131-9C080001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AC37-3014-4C69-8216-14ACEB19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651B8-6B27-46F6-B3A7-8E267803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02F3-159C-460C-AD41-2FCFC246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AC37-E0A8-4AB4-9B12-618AFF90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54AE-27A4-4721-AEE1-604286A5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A42E-A792-4EEF-94AC-094A96F2A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6EC0-A797-40EB-84F0-E11446015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AA1EA-A078-4736-AB07-97920341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90D0F-A896-4A4B-B5BB-284911CF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4A2F0-4682-4468-B0B4-77F2F42D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3587A-37A2-4CD3-A631-C88F451E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D907F-58D0-46B8-A33E-951FF65C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4F479-273F-4957-A94B-271F3400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B3091-7C8C-48E5-A599-FA326064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25C2-9F84-45E3-AC58-4B385EDBCC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CDCC-A525-42AA-9B10-D7556618A6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o.wikipedia.org/wiki/Atribut" TargetMode="External"/><Relationship Id="rId2" Type="http://schemas.openxmlformats.org/officeDocument/2006/relationships/hyperlink" Target="http://ro.wikipedia.org/wiki/Pronume" TargetMode="External"/><Relationship Id="rId3" Type="http://schemas.openxmlformats.org/officeDocument/2006/relationships/hyperlink" Target="http://ro.wikipedia.org/wiki/Caz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Berlin Sans FB Demi"/>
              </a:rPr>
              <a:t>Atributul</a:t>
            </a: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66680" y="4876920"/>
            <a:ext cx="70866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erlin Sans FB Demi"/>
              </a:rPr>
              <a:t>Atributul pronominal</a:t>
            </a:r>
            <a:endParaRPr b="0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erlin Sans FB Demi"/>
              <a:ea typeface="Berlin Sans FB Demi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tribut pronomin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este un </a:t>
            </a:r>
            <a:r>
              <a:rPr b="0" lang="en-US" sz="4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atribu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exprimat printr-un </a:t>
            </a:r>
            <a:r>
              <a:rPr b="0" lang="en-US" sz="4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pronum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ersonal, reflexiv, posesiv, demonstrativ. Pronumele poate fi în </a:t>
            </a:r>
            <a:r>
              <a:rPr b="0" lang="en-US" sz="40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cazuril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nominativ (apoziţional), genitiv (genitival), dativ sau acuzativ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66680" y="685800"/>
            <a:ext cx="723924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erlin Sans FB Demi"/>
              </a:rPr>
              <a:t>Definitia Atributului Pronominal</a:t>
            </a:r>
            <a:endParaRPr b="0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erlin Sans FB Demi"/>
              <a:ea typeface="Berlin Sans FB Demi"/>
            </a:endParaRPr>
          </a:p>
        </p:txBody>
      </p:sp>
    </p:spTree>
  </p:cSld>
  <p:transition>
    <p:wedg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Atributul pronominal se exprima prin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Berlin Sans FB Demi"/>
              </a:rPr>
              <a:t>atributul pronominal genitival</a:t>
            </a:r>
            <a:r>
              <a:rPr b="1" lang="en-US" sz="3200" spc="-1" strike="noStrike">
                <a:solidFill>
                  <a:srgbClr val="000000"/>
                </a:solidFill>
                <a:latin typeface="Berlin Sans FB Dem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 Demi"/>
              </a:rPr>
              <a:t>    </a:t>
            </a:r>
            <a:r>
              <a:rPr b="1" lang="ro-RO" sz="3200" spc="-1" strike="noStrike">
                <a:solidFill>
                  <a:srgbClr val="000000"/>
                </a:solidFill>
                <a:latin typeface="Berlin Sans FB Demi"/>
              </a:rPr>
              <a:t>Cărţile </a:t>
            </a:r>
            <a:r>
              <a:rPr b="1" lang="ro-RO" sz="3200" spc="-1" strike="noStrike" u="sng">
                <a:solidFill>
                  <a:srgbClr val="000000"/>
                </a:solidFill>
                <a:uFillTx/>
                <a:latin typeface="Berlin Sans FB Demi"/>
              </a:rPr>
              <a:t>lor</a:t>
            </a:r>
            <a:r>
              <a:rPr b="1" lang="ro-RO" sz="3200" spc="-1" strike="noStrike">
                <a:solidFill>
                  <a:srgbClr val="000000"/>
                </a:solidFill>
                <a:latin typeface="Berlin Sans FB Demi"/>
              </a:rPr>
              <a:t> se află pe banc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Berlin Sans FB Demi"/>
              </a:rPr>
              <a:t>atribut pronominal apoziţion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 Demi"/>
              </a:rPr>
              <a:t>    </a:t>
            </a:r>
            <a:r>
              <a:rPr b="1" lang="ro-RO" sz="3200" spc="-1" strike="noStrike">
                <a:solidFill>
                  <a:srgbClr val="000000"/>
                </a:solidFill>
                <a:latin typeface="Berlin Sans FB Demi"/>
              </a:rPr>
              <a:t>Colegii, </a:t>
            </a:r>
            <a:r>
              <a:rPr b="1" lang="ro-RO" sz="3200" spc="-1" strike="noStrike" u="sng">
                <a:solidFill>
                  <a:srgbClr val="000000"/>
                </a:solidFill>
                <a:uFillTx/>
                <a:latin typeface="Berlin Sans FB Demi"/>
              </a:rPr>
              <a:t>ei</a:t>
            </a:r>
            <a:r>
              <a:rPr b="1" lang="ro-RO" sz="3200" spc="-1" strike="noStrike">
                <a:solidFill>
                  <a:srgbClr val="000000"/>
                </a:solidFill>
                <a:latin typeface="Berlin Sans FB Demi"/>
              </a:rPr>
              <a:t>, n-au fost de acord cu propunerea făcut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Berlin Sans FB Demi"/>
              </a:rPr>
              <a:t>atribut pronominal în dativ</a:t>
            </a:r>
            <a:r>
              <a:rPr b="1" lang="en-US" sz="3200" spc="-1" strike="noStrike">
                <a:solidFill>
                  <a:srgbClr val="000000"/>
                </a:solidFill>
                <a:latin typeface="Berlin Sans FB Demi"/>
              </a:rPr>
              <a:t>:</a:t>
            </a:r>
            <a:r>
              <a:rPr b="1" lang="ro-RO" sz="3200" spc="-1" strike="noStrike">
                <a:solidFill>
                  <a:srgbClr val="000000"/>
                </a:solidFill>
                <a:latin typeface="Berlin Sans FB Dem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Berlin Sans FB Demi"/>
              </a:rPr>
              <a:t>Păru-</a:t>
            </a:r>
            <a:r>
              <a:rPr b="0" lang="ro-RO" sz="3200" spc="-1" strike="noStrike" u="sng">
                <a:solidFill>
                  <a:srgbClr val="000000"/>
                </a:solidFill>
                <a:uFillTx/>
                <a:latin typeface="Berlin Sans FB Demi"/>
              </a:rPr>
              <a:t>i</a:t>
            </a:r>
            <a:r>
              <a:rPr b="0" lang="ro-RO" sz="3200" spc="-1" strike="noStrike">
                <a:solidFill>
                  <a:srgbClr val="000000"/>
                </a:solidFill>
                <a:latin typeface="Berlin Sans FB Demi"/>
              </a:rPr>
              <a:t> atingea pământ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Toate isi au rost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Poate sta in fata cuvantului determinat sau dupa acest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Nu se desparte prin virgula de cuvatul determina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Sta in alt caz decat cuvantul determin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19520" y="609480"/>
            <a:ext cx="3657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erlin Sans FB Demi"/>
              </a:rPr>
              <a:t>Observatii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erlin Sans FB Demi"/>
              <a:ea typeface="Berlin Sans FB Demi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620120" y="457200"/>
            <a:ext cx="12189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Atributul pronominal este de mai multe felu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Genitival, exprimat prin pronume in cazul 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Personal : Suieram l-a ei chem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Demonstrativ: A ascultat sfatul acelu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Posesiv: se mira de harnicia alor nost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Prepozitional, exprimat prin pronume cu prepozitie in cazul Ac sau 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Personal: Osteni ca noi se mai gases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Reflexiv: Luda de sine nu miroase a b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Posesiv: glas ca al meu nu se afla in noua hot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Demonstrativ: lupta impotriva acestora i-a secatuit puter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In cazul D, exprimat prin forma neaccentuata de D a pronumelu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Personal: Ochii ei albastri clipira sub lungile-I gene bala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Refrexiv: Niculaita si-a bagat banii in chim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85840" y="2286000"/>
            <a:ext cx="8858160" cy="15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erlin Sans FB Demi"/>
              </a:rPr>
              <a:t>Acest proiect a fost realizat de eleva Stoian Alina clasa a VI-a B 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erlin Sans FB Demi"/>
              <a:ea typeface="Berlin Sans FB Demi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228600" y="4191120"/>
            <a:ext cx="3282840" cy="2109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334120" y="4191120"/>
            <a:ext cx="19047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48:35Z</dcterms:created>
  <dc:creator>ddd</dc:creator>
  <dc:description/>
  <dc:language>en-US</dc:language>
  <cp:lastModifiedBy>ddd</cp:lastModifiedBy>
  <dcterms:modified xsi:type="dcterms:W3CDTF">2011-05-10T20:37:53Z</dcterms:modified>
  <cp:revision>3</cp:revision>
  <dc:subject/>
  <dc:title>Atributul</dc:title>
</cp:coreProperties>
</file>